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4FB-F8BF-4CC8-8802-CACBAA8B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C34-6F34-45D7-8D81-FAB43287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BF4-39C3-4766-899D-993379C3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C39-D947-4CF7-8671-272D4D5C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E09-F605-4157-B985-AD053F50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6B0-C4A7-4C07-8957-63FFC8D8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AB8-5F62-477D-A569-055FAC73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3E7-7DBB-4AD1-9B70-073EBB4C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E74-1303-43B3-B296-1A2C890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B48-6509-4AA7-810C-18666EF4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66D-1410-45AA-8F95-7ACC1628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971-D510-4E53-B793-71DBC62A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2E98-DB8B-431D-B815-4A1C03DD7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20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actical SAT Solving: Achievements, Problems, Opportuniti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2205000"/>
            <a:ext cx="6624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. Modern resolution based SAT-solvers. What are they “made of”? Why do they work so w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Linear size resolution proofs that can not be found efficiently (equivalence checking of combinational circui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Testing the satisfiability of a formula by computing a stable set of poi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ducing Circuit Satisfiability to S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1590840"/>
            <a:ext cx="3352680" cy="134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5280" y="3156120"/>
            <a:ext cx="324180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4160" y="14461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43680" y="5334120"/>
            <a:ext cx="374580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,   C =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936960" y="3639600"/>
            <a:ext cx="533160" cy="45720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51440" y="413532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4135320"/>
            <a:ext cx="22068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28160" y="430056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82360" y="430056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2760" y="3689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8160" y="3365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61640" y="31496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030480"/>
            <a:ext cx="367200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1557360"/>
          <a:ext cx="3143160" cy="48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557360"/>
                    <a:ext cx="31431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Universality Also Causes Problems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19162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practical viewpoint, the most  attractive property of SAT is i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vers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508464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s usual, “a sin”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efficiency of 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 just an extension of “a virtue”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versality of 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924280"/>
            <a:ext cx="64803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theoretical viewpoint, universality of SAT is the “cause” of its complexity  (e.g. one can describe the behavior of a  non-deterministic Turing machine by a set of clauses (Cook’s theore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4880" y="1647720"/>
            <a:ext cx="63644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olution Proof System (R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heoretical Results About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esolution Opera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268280"/>
            <a:ext cx="8064720" cy="23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lauses having exactly one pair of opposite lit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ol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tained by resol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3716280"/>
            <a:ext cx="70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id to be obtain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y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olutio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43440" y="4743360"/>
            <a:ext cx="62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roperty of the resolutio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7560" y="5229360"/>
            <a:ext cx="797184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satisfied, the resolvent is satisfied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724280"/>
            <a:ext cx="79912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olution Operation (continued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268280"/>
            <a:ext cx="7435800" cy="12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more than one pair of clashing literals or do not have clashing literals at all, potential resolvents are “triv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2871720"/>
            <a:ext cx="770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By resol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vari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obtain a tautologous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16360"/>
            <a:ext cx="6932520" cy="12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no clashing literals one can only produce a trivial clause  impli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5415120"/>
            <a:ext cx="770580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 No variable to resolve in. By combining the literals o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obtain 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256536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51577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esolution Proof System (RPS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9240" y="1341360"/>
            <a:ext cx="71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for first-order logic by A.Robinson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39840" y="2079720"/>
            <a:ext cx="721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S consists only of the resolutio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299736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CNF formu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proof of unsatisf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 RPS is a sequence of resolution operations resulting in derivation of an empty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4508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quence is called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olution 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satisf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0800" y="1413000"/>
            <a:ext cx="417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98360" y="2362320"/>
            <a:ext cx="5895000" cy="100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esolving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and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produce the clause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3573360"/>
            <a:ext cx="59770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esolving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pro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mpty cla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16200" y="4743360"/>
            <a:ext cx="61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lution proof above consists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wo resolution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esolution Graph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09480" y="24192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62200" y="241920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49920" y="23954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2997360"/>
            <a:ext cx="86364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97036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69840" y="1916280"/>
            <a:ext cx="93672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06360" y="1962000"/>
            <a:ext cx="3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62200" y="2995560"/>
            <a:ext cx="93672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97200" y="2995560"/>
            <a:ext cx="61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4200" y="350028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545840" y="3500280"/>
            <a:ext cx="3589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6760" y="4005360"/>
            <a:ext cx="1152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4003560"/>
            <a:ext cx="1295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24560" y="4005360"/>
            <a:ext cx="96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9800" y="4003560"/>
            <a:ext cx="114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8120" y="35002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1628640"/>
            <a:ext cx="49942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s are original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als are resol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in which clauses are resolved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own in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27280" y="4905360"/>
            <a:ext cx="595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a resolution graph i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al case of RPS, i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ee-like R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solution graph is a t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PS Is Sound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1989000"/>
            <a:ext cx="72723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S is sound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lv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mpli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nce an empty claus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s deduced from clauses of 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nd their descendants) only by resolution operations, the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s implied b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n empty clause can not be satisfied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satis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PS Is Complet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1574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unsatisfiable formu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c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e its unsatisfiability by building a binary search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450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inary search tree can be simulated by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ree-like R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special case of RPS)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or any unsatisfiable formula there is  a proof in R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068640"/>
            <a:ext cx="6551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of this tree are assigned variabl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ere split on, leaves are assigned clauses that were falsifie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4160" y="1647720"/>
            <a:ext cx="61786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atisfiability Problem (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SAT in Such High Dem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4880" y="1647720"/>
            <a:ext cx="63644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Proof System (R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heoretical Results About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istential Quantifica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557360"/>
            <a:ext cx="7848360" cy="23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 a Boolean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…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,…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istential quan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508640"/>
            <a:ext cx="7777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1 if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 That is fun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satisfiable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tisf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avis-Puttnam Procedur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1484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in 1960 (5 years before Robinson’s resol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2133720"/>
            <a:ext cx="725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 CNF formula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be its set of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3279600"/>
            <a:ext cx="5256000" cy="26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is not emp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ick_variabl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\ 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xistentially_quantify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0) return (‘unsatisfiab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1 ) return (‘satisfiab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Quantification of CNF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1263600"/>
            <a:ext cx="7416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a CNF formula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~x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ists of  the claus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ependen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 respectively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~x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onsists of the claus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ing liter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spectively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2852640"/>
            <a:ext cx="799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.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…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.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…) 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3500280"/>
            <a:ext cx="784872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8000" y="4226040"/>
            <a:ext cx="6004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64320" y="4869000"/>
            <a:ext cx="470880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avis and Puttnam Procedure in Terms of Resolution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205000"/>
            <a:ext cx="8064360" cy="336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is not emp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ick_variabl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\ 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dd_resolvents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 the claus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em_clauses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} /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the claus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variab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 0) return (‘unsatisfiab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 1 ) return (‘satisfiab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P Procedure Generates Huge Number of Clause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187280" y="5446800"/>
          <a:ext cx="7129800" cy="934920"/>
        </p:xfrm>
        <a:graphic>
          <a:graphicData uri="http://schemas.openxmlformats.org/drawingml/2006/table">
            <a:tbl>
              <a:tblPr/>
              <a:tblGrid>
                <a:gridCol w="1184400"/>
                <a:gridCol w="666720"/>
                <a:gridCol w="741600"/>
                <a:gridCol w="863280"/>
                <a:gridCol w="865440"/>
                <a:gridCol w="900000"/>
                <a:gridCol w="755640"/>
                <a:gridCol w="647640"/>
                <a:gridCol w="50508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f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249200" y="501480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 CNF formula, 35 variables, 42 clauses, time=4585.6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87280" y="1940040"/>
          <a:ext cx="6697440" cy="914400"/>
        </p:xfrm>
        <a:graphic>
          <a:graphicData uri="http://schemas.openxmlformats.org/drawingml/2006/table">
            <a:tbl>
              <a:tblPr/>
              <a:tblGrid>
                <a:gridCol w="1002960"/>
                <a:gridCol w="561600"/>
                <a:gridCol w="560160"/>
                <a:gridCol w="561960"/>
                <a:gridCol w="560160"/>
                <a:gridCol w="561600"/>
                <a:gridCol w="560160"/>
                <a:gridCol w="560160"/>
                <a:gridCol w="563400"/>
                <a:gridCol w="560160"/>
                <a:gridCol w="645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f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249560" y="1414440"/>
            <a:ext cx="65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 CNF formula, 20 variables, 85 clauses, time=0.2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6720" y="3141720"/>
            <a:ext cx="65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 CNF formula, 30 variables, 127 clauses,time=9.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87280" y="3502080"/>
          <a:ext cx="7081920" cy="1120680"/>
        </p:xfrm>
        <a:graphic>
          <a:graphicData uri="http://schemas.openxmlformats.org/drawingml/2006/table">
            <a:tbl>
              <a:tblPr/>
              <a:tblGrid>
                <a:gridCol w="1033560"/>
                <a:gridCol w="582480"/>
                <a:gridCol w="576360"/>
                <a:gridCol w="689040"/>
                <a:gridCol w="647640"/>
                <a:gridCol w="647640"/>
                <a:gridCol w="649080"/>
                <a:gridCol w="574920"/>
                <a:gridCol w="576360"/>
                <a:gridCol w="438120"/>
                <a:gridCol w="6667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f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6320" y="1268280"/>
            <a:ext cx="63644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Proof System (R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heoretical Results About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estriction of CNF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1413000"/>
            <a:ext cx="77245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n assignment (partial or complete) to variabl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NF formula obtain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all the claus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satisfi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from the unsatisfied claus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the literals that are set to 0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id to be the formu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tri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 just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tr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h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PLL procedur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35920" y="1125360"/>
            <a:ext cx="2635920" cy="9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s, Logeman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eland 196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2467080"/>
            <a:ext cx="7056720" cy="44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P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is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tur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‘sat’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re_lit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  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ply_the_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t_cla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return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‘unsa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ck_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} 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P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) =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‘unsa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P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) =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‘unsa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‘unsa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retur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‘sat’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8960" y="1263600"/>
            <a:ext cx="425304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Return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‘sa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atisf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Return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‘unsa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nsatisf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Initial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99040" y="1211400"/>
            <a:ext cx="591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626920" y="2708280"/>
            <a:ext cx="792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67280" y="2708280"/>
            <a:ext cx="10810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2997360"/>
            <a:ext cx="2089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1989000"/>
            <a:ext cx="345600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ck_ass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ke_ass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73080" y="4797360"/>
            <a:ext cx="2951280" cy="107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pro-duces a falsified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LL returns ‘unsa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997360"/>
            <a:ext cx="2089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797360"/>
            <a:ext cx="2951280" cy="107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pro-duces a falsified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LL returns ‘unsa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iteral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2060640"/>
            <a:ext cx="6842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Boolean function of one Boolean vari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ntity function of a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sitive lit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noted just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on function of a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gative lit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noted by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ure Literal Ru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1341360"/>
            <a:ext cx="6069240" cy="17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 a CNF formula. Suppose that no claus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the negative litera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That is if a claus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litera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always posi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4176720"/>
            <a:ext cx="7153200" cy="12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NF formula has literals of only one polarity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can 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value satisfying the clauses having literal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73920" y="3068640"/>
            <a:ext cx="666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0 impli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50880" y="36450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ure literal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3800" y="546408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arely used in current SAT-sol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oolean Constraint Propagation (BCP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148428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NF formlula has a unit cl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can only be satisfied by setting the only litera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20520" y="2852640"/>
            <a:ext cx="4902840" cy="31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while (su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unsat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return ‘unsa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success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ke_ass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}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53760" y="1211400"/>
            <a:ext cx="67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94280" y="1839960"/>
            <a:ext cx="533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)}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3429000"/>
            <a:ext cx="7580520" cy="28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assign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 to satisfy unit cl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),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)},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Making assign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 to satisfy cl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),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),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)}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i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an empty clau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returns ‘unsa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160" y="2583000"/>
            <a:ext cx="33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PLL and Tree-like RP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216080"/>
            <a:ext cx="3889440" cy="50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satisfiable formulas, pure literal rule can be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ying a unit clause can be represented as branching with an immediate conflict in one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of generated by DPLL can be represented as a binary search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af of this tree corre-sponds to a falsified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responding resolution proof is obtained by resolving clauses in branching variables moving from leaves to the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40000" y="148428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48800" y="16034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197080" y="2133720"/>
            <a:ext cx="287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213372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1800" y="2108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61080" y="2108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63640" y="2708280"/>
            <a:ext cx="79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72440" y="28274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11280" y="3357720"/>
            <a:ext cx="433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620720" y="3357720"/>
            <a:ext cx="287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9080" y="393228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7520" y="40514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4720" y="458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36720" y="458136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2720" y="5157720"/>
            <a:ext cx="12254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65800" y="333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607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66920" y="5157720"/>
            <a:ext cx="201780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9200" y="455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3394080"/>
            <a:ext cx="12254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3825720"/>
            <a:ext cx="122580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7800" y="325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2060640"/>
            <a:ext cx="504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6320" y="1268280"/>
            <a:ext cx="63644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Proof System (R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me Theoretical Results About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ponential Lower Bounds of Resolu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6920" y="1844640"/>
            <a:ext cx="729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68, Tseitin proved superpolynomial lower bound for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ular 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regular 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y one variable is resolved along any path from a source to the sink of the resolution gra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He used CNF formulas capturing the fact that for any graph the sum of degrees of the vertexes is e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3933720"/>
            <a:ext cx="73454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85, Haken proved superpolynomial lower bound fo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e used CNF formulas capturing the pigeon-hole principle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 pigeons can not be allocat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es so that no two pigeons share a 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hort Proofs in RPS Are “Narrow”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1268280"/>
            <a:ext cx="743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class of unsatisfiable CNF formulas. Suppose the length (number of literals) of each clause of a CN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imited by a cons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4581360"/>
            <a:ext cx="678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 show that a class of formulas (consisting of clauses of bounded length) has only superpolynomial proofs in RPS, it suffices to show that in any resolution proof a “long” resolvent will be gene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2565360"/>
            <a:ext cx="70056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ro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nsatisfiable is the length of the longest clause appear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Ben Sasson and  Wigderson showed in 1999 that  if CNFs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polynomial proofs in RPS, there always exis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arrow proo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width bound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q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ponential Separation of Tree-like RPS and RP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1676520"/>
            <a:ext cx="51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t,Esteban,Galesi,Johansen 1998, Ben-Sasson,Impagliazzo,Wigderso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2421000"/>
            <a:ext cx="67881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separation of tree-like RPS and RPS. There exists a class of CNF formulas with polynomial (actually linear) proofs in RPS  and exponential proofs in tree-like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44040" y="4682160"/>
            <a:ext cx="35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khnovich, Johanns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41280" y="5229360"/>
            <a:ext cx="707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separation of regular RPS an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6320" y="1268280"/>
            <a:ext cx="63644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Proof System (R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heoretical Results About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tende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tension Ru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13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 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operation” + “extension rul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extension rule was introduced by Tseitin in 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4502160"/>
            <a:ext cx="693252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at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n new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introduced by adding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following three clau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, (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, (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32000" y="2946240"/>
            <a:ext cx="6789600" cy="160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 a CNF formula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 extensi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 introduce a new variable: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troduced as a set of clau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ause, CNF Formula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781360" y="1846440"/>
          <a:ext cx="2371680" cy="1800000"/>
        </p:xfrm>
        <a:graphic>
          <a:graphicData uri="http://schemas.openxmlformats.org/drawingml/2006/table">
            <a:tbl>
              <a:tblPr/>
              <a:tblGrid>
                <a:gridCol w="790560"/>
                <a:gridCol w="790560"/>
                <a:gridCol w="79056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2781360" y="1846440"/>
            <a:ext cx="77292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46560" y="1989000"/>
            <a:ext cx="110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36720" y="1747800"/>
            <a:ext cx="116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51680" y="1139760"/>
            <a:ext cx="99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0920" y="1876320"/>
            <a:ext cx="2361600" cy="9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8560" y="5156280"/>
            <a:ext cx="7561080" cy="95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CNF form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njunction of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872320" y="1832040"/>
          <a:ext cx="2371680" cy="1800000"/>
        </p:xfrm>
        <a:graphic>
          <a:graphicData uri="http://schemas.openxmlformats.org/drawingml/2006/table">
            <a:tbl>
              <a:tblPr/>
              <a:tblGrid>
                <a:gridCol w="790560"/>
                <a:gridCol w="790560"/>
                <a:gridCol w="79056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5872320" y="1832040"/>
            <a:ext cx="77292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37520" y="1974960"/>
            <a:ext cx="110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27680" y="1733400"/>
            <a:ext cx="116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42280" y="1125360"/>
            <a:ext cx="99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8560" y="4076640"/>
            <a:ext cx="74167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junction of literals is call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ower of Extended RP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1341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 is a powerful proof system. (In contrast to RPS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t is not broken y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2852640"/>
            <a:ext cx="7632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t has even more non-determinism than   RPS.  In RPS  the main source of non-determinism is 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icking a pair of clauses to re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79480" y="4672080"/>
            <a:ext cx="743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ension rule adds one more powerful source of non-determinism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icking a  new variable to ad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building a SAT-solver based on extended resolution is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troduction of New Variables in SAT-algorith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1628640"/>
            <a:ext cx="7993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AT-algorithms (Stalmarck algorithm, eqsatz (Chu Min LI)) us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quality 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xploring bran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3173400"/>
            <a:ext cx="79408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simulated as exploring bran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new variable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6920" y="4167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of these new variables leads to performance improvement on  some classes of formulas. However, unless there is some information about the formula to be solved,  using new variables is a gam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roof System Automatizability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0000" y="1197000"/>
            <a:ext cx="794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ly, a proof system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utomatiz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re is an efficient algorithm for finding “good” proofs in this system (Bonet, Pitassi and Raz,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2421000"/>
            <a:ext cx="7056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eelike RPS and 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re most likely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n-automatiz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ekhnovich and Razborov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3284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ule of thum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more powerful a proof system is, the “less automatizable” it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4076640"/>
            <a:ext cx="7345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tended 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ponentially more powerful than  RPS. RPS is exponentially more powerful than tree-like RP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1640" y="50148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uccessful resolution-based SAT-solvers are essentially based on tree-like RPS. Building a SAT-solver based on RPS (let alone extended RPS) is still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 open prob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66240" y="1268280"/>
            <a:ext cx="5627520" cy="52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Branch “Elimin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hronological Back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mpl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Driven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BCP, Restarts and 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rief History of SAT-solving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(related to resolution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8840" y="1773360"/>
            <a:ext cx="74548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tial quantificatio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6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splitting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6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short claus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r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8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learning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nib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9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ty reasoning, learning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lmarck 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driven learn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elsa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BCP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BCP, new decision making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decision making and other improveme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k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mproveme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2003)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ocal Search Algorithm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1268280"/>
            <a:ext cx="664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mportant class of SAT-solvers are incomplete algorithms meant for solving only satisfiable formulas lik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92),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alk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94) and many oth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32000" y="2565360"/>
            <a:ext cx="67690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CNF formula. A typical local search SAT-algorithm maintains a complete assignme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 claus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lsifi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t every step such an algorithm tries to flip an assignme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duce the number of falsified cla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32000" y="438300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uch an assignment does not exist, typically, a random value (whose choice may be constrained by some heuristic) is flipped i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27320" y="5589720"/>
            <a:ext cx="6322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this talk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l search algorithms are not consid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Typical Resolution-Based SAT-Solver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no restarts or preprocessing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1484280"/>
            <a:ext cx="8208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s the original CNF formula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s solver’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_sol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while (true) {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starting the main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BCP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= ‘conflict’) {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 confli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nerate_conflict_clause(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learn a new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mpty) return (‘unsat’);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the learned clause is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{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C is not  emp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ktr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} 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d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backt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no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_vars_as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return(‘sat’);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ll vars are 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ke_ass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}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ssign value to a free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Typical Resolution-Based SAT-Solver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with preprocessing and restarts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700280"/>
            <a:ext cx="82087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s the original CNF formula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s solver’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_solver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processing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learn some short clauses and/or remove v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starting the main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f (a_condition_holds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 restar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time to make a re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BCP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= ‘conflict’)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 confli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make_assignment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}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ssign value to a free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hat Is Different from DPLL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1844640"/>
            <a:ext cx="6840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rocessing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ew implications may be added as “short” clauses. Some variables may be existentially removed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tart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ndition is me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the number of conflicts  exceeds a threshold), a new search tree one is star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n-chronological Backtrack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acktracking a SAT-solver jumps over decision assignments that did not contribute to the last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Is Different from DPLL?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1844640"/>
            <a:ext cx="7489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flict clause generation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nflict occurs a new nontrivial implication is added to the current form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ast BCP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ping clauses that can not b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cursion is not use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calling itself recursively, a SAT-solver maintains  a stack of decision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 right branch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branch assignment is derived from a conflict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ore About Clause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484280"/>
            <a:ext cx="7489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a clause h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t most one literal of a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 (tautologous cla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3500280"/>
            <a:ext cx="7489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use without literals is called 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mpty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enote it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apital lambda). Cla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n not b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4967280"/>
            <a:ext cx="75614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use with only one literal is called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t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nit clause can be satisfied only by setting its only literal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ssignmen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39840" y="1725480"/>
            <a:ext cx="72928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 set of Boolean varia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complete ass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variabl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app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,1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pp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,1}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 partial ass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9440" y="4076640"/>
            <a:ext cx="7372800" cy="149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lete ass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ial ass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atisfiability Problem (SAT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2924280"/>
            <a:ext cx="6840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tisfiability probl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s follows. Given a set of cl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d an assignment satisfying every claus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s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r prove that such an assignment does no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1557360"/>
            <a:ext cx="71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us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tisfied (falsifie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n assignm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1 (respectively 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86900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ignment satisfying the claus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f any) is called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tisfying ass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1647720"/>
            <a:ext cx="69325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tisfiability Problem (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 Is SAT in Such High Dem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ain Attractions of S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342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actical problems from various domains reduce  to S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 synthesis, manufacturing test generation, model checking, circuit routing, equivalence checking, software ver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 so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ast  few years considerable progress has been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AT-solvers can handle practical formulas with millions of variables and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03:54:10Z</dcterms:created>
  <dc:creator>administrator</dc:creator>
  <dc:description/>
  <dc:language>en-US</dc:language>
  <cp:lastModifiedBy>Eugene Goldberg</cp:lastModifiedBy>
  <dcterms:modified xsi:type="dcterms:W3CDTF">2006-11-03T12:52:57Z</dcterms:modified>
  <cp:revision>1819</cp:revision>
  <dc:subject/>
  <dc:title>PowerPoint Presentation</dc:title>
</cp:coreProperties>
</file>